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7980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264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464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208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464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208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FEDC-83B3-4D07-B068-900ED46C6B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22CF-47D5-4455-98F8-594FBDA493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8E54-04BB-40CB-B041-9B17486139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69E9-F540-44E9-8BC2-E0DE1C2596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E7EE-0851-4129-A74C-8C6A43DE53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61680" y="27432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2FA0-640D-4BCD-9FE1-1E3DFCFB2E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D638-E399-4AA4-8B2D-79EB3F8C56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264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213A-23CA-4577-A4C3-16CE432777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FB29-3FD9-4A19-9890-2B04C6571D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7980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5ACB-2B13-4D5E-9C8E-072E9157C4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264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382A-B7B1-4CD9-966D-B6EA70C13E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464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08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464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08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3B50-CF54-48CA-B895-DAA091CBCD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61680" y="27432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264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144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357960"/>
              <a:ext cx="9144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jan Pro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2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3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4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5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6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" name="Picture 7" descr="v3_logo_gold.png"/>
          <p:cNvPicPr/>
          <p:nvPr/>
        </p:nvPicPr>
        <p:blipFill>
          <a:blip r:embed="rId3"/>
          <a:srcRect l="21097" t="0" r="0" b="37313"/>
          <a:stretch/>
        </p:blipFill>
        <p:spPr>
          <a:xfrm>
            <a:off x="42840" y="368280"/>
            <a:ext cx="1690560" cy="760320"/>
          </a:xfrm>
          <a:prstGeom prst="rect">
            <a:avLst/>
          </a:prstGeom>
          <a:ln w="0">
            <a:noFill/>
          </a:ln>
        </p:spPr>
      </p:pic>
      <p:sp>
        <p:nvSpPr>
          <p:cNvPr id="6" name="Text Box 24"/>
          <p:cNvSpPr/>
          <p:nvPr/>
        </p:nvSpPr>
        <p:spPr>
          <a:xfrm>
            <a:off x="4082400" y="6453360"/>
            <a:ext cx="918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ajan Pro"/>
              </a:rPr>
              <a:t>v3 Partners inc.</a:t>
            </a:r>
            <a:endParaRPr b="0" lang="en-US" sz="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" spc="-1" strike="noStrike">
                <a:solidFill>
                  <a:srgbClr val="000000"/>
                </a:solidFill>
                <a:latin typeface="Trajan Pro"/>
              </a:rPr>
              <a:t>Copyright 2013</a:t>
            </a:r>
            <a:endParaRPr b="0" lang="en-US" sz="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Rectangle 8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4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144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6357960"/>
              <a:ext cx="9144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46" name="Text Box 9"/>
          <p:cNvSpPr/>
          <p:nvPr/>
        </p:nvSpPr>
        <p:spPr>
          <a:xfrm>
            <a:off x="4079520" y="6427800"/>
            <a:ext cx="91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ajan Pro"/>
              </a:rPr>
              <a:t>v3 Partners inc.</a:t>
            </a:r>
            <a:endParaRPr b="0" lang="en-US" sz="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7" name="Picture 6" descr="v3_logo_gold.png"/>
          <p:cNvPicPr/>
          <p:nvPr/>
        </p:nvPicPr>
        <p:blipFill>
          <a:blip r:embed="rId3"/>
          <a:stretch/>
        </p:blipFill>
        <p:spPr>
          <a:xfrm>
            <a:off x="3130560" y="1268280"/>
            <a:ext cx="2538360" cy="14353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3057120" y="5067360"/>
            <a:ext cx="31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rajan Pro"/>
              </a:rPr>
              <a:t>Tisztelet &amp; Teljesítmény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jan Pro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2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3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4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5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6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rajan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24F5-894A-458F-8666-CFC72BAF5914}" type="slidenum">
              <a:rPr b="0" lang="hu-HU" sz="1000" spc="-1" strike="noStrike">
                <a:solidFill>
                  <a:srgbClr val="000000"/>
                </a:solidFill>
                <a:latin typeface="Trajan Pr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rajan Pro"/>
              </a:rPr>
              <a:t>Feature/Benefit</a:t>
            </a:r>
            <a:br>
              <a:rPr sz="3600"/>
            </a:br>
            <a:r>
              <a:rPr b="0" lang="hu-HU" sz="2000" spc="-1" strike="noStrike">
                <a:solidFill>
                  <a:srgbClr val="000000"/>
                </a:solidFill>
                <a:latin typeface="Trajan Pro"/>
              </a:rPr>
              <a:t>Identify and answer cutomer Needs </a:t>
            </a:r>
            <a:endParaRPr b="0" lang="en-US" sz="2000" spc="-1" strike="noStrike">
              <a:solidFill>
                <a:srgbClr val="000000"/>
              </a:solidFill>
              <a:latin typeface="Trajan Pro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65360"/>
          <a:ext cx="8362800" cy="4286160"/>
        </p:xfrm>
        <a:graphic>
          <a:graphicData uri="http://schemas.openxmlformats.org/drawingml/2006/table">
            <a:tbl>
              <a:tblPr/>
              <a:tblGrid>
                <a:gridCol w="2602080"/>
                <a:gridCol w="2808000"/>
                <a:gridCol w="2952720"/>
              </a:tblGrid>
              <a:tr h="77796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oblem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94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Fe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Benefi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t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vs.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ompeti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5d6"/>
                    </a:solidFill>
                  </a:tcPr>
                </a:tc>
              </a:tr>
              <a:tr h="77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9:57:49Z</dcterms:created>
  <dc:creator>Mórucz László</dc:creator>
  <dc:description/>
  <cp:keywords>V3Partners Zrt.</cp:keywords>
  <dc:language>en-US</dc:language>
  <cp:lastModifiedBy>Laci</cp:lastModifiedBy>
  <dcterms:modified xsi:type="dcterms:W3CDTF">2014-07-27T17:10:12Z</dcterms:modified>
  <cp:revision>142</cp:revision>
  <dc:subject/>
  <dc:title>Feature/Benefit Matrix</dc:title>
</cp:coreProperties>
</file>