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E6CE-3CE0-4ADA-8DFF-DDEAA7733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2311-4FDA-4D4D-BB66-478812A2B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7EAE-A459-4EC0-BB55-B88216F5D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FB19-52E5-454D-B7CE-1B7C171F01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CEB4-41BA-4E8F-8C39-FCC8D5DC1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B6D0-CDED-47CE-8FE5-708BA08E6B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18E6-3F6D-4A89-B45A-F1D864E6D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9B1C-3F32-4D28-9689-1DB4A5F09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7338-39B6-4AF1-8013-DBA5C751C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2C28-5138-40D8-A875-CF3F73328D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4287-C427-43EE-954C-61CDD92E7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98DD-2E06-4E2C-89FC-72EEBE700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7" descr="v3_logo_gold.png"/>
          <p:cNvPicPr/>
          <p:nvPr/>
        </p:nvPicPr>
        <p:blipFill>
          <a:blip r:embed="rId3"/>
          <a:srcRect l="21097" t="0" r="0" b="37313"/>
          <a:stretch/>
        </p:blipFill>
        <p:spPr>
          <a:xfrm>
            <a:off x="42840" y="368280"/>
            <a:ext cx="169056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4"/>
          <p:cNvSpPr/>
          <p:nvPr/>
        </p:nvSpPr>
        <p:spPr>
          <a:xfrm>
            <a:off x="4082400" y="6453360"/>
            <a:ext cx="91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" spc="-1" strike="noStrike">
                <a:solidFill>
                  <a:srgbClr val="000000"/>
                </a:solidFill>
                <a:latin typeface="Trajan Pro"/>
              </a:rPr>
              <a:t>Copyright 2013</a:t>
            </a:r>
            <a:endParaRPr b="0" lang="en-US" sz="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4079520" y="6427800"/>
            <a:ext cx="91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v3_logo_gold.png"/>
          <p:cNvPicPr/>
          <p:nvPr/>
        </p:nvPicPr>
        <p:blipFill>
          <a:blip r:embed="rId3"/>
          <a:stretch/>
        </p:blipFill>
        <p:spPr>
          <a:xfrm>
            <a:off x="3130560" y="1268280"/>
            <a:ext cx="2538360" cy="143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57120" y="5067360"/>
            <a:ext cx="31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rajan Pro"/>
              </a:rPr>
              <a:t>Tisztelet &amp; Teljesítmény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raja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18B-0B5D-4785-8DA7-7960B59C1005}" type="slidenum">
              <a:rPr b="0" lang="hu-HU" sz="1000" spc="-1" strike="noStrike">
                <a:solidFill>
                  <a:srgbClr val="000000"/>
                </a:solidFill>
                <a:latin typeface="Traja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44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rajan Pro"/>
              </a:rPr>
              <a:t>Értékek/Előnyök</a:t>
            </a:r>
            <a:br>
              <a:rPr sz="3600"/>
            </a:b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Találd Meg és válaszold meg az Ügyfél igényét! 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65360"/>
          <a:ext cx="8362800" cy="4591080"/>
        </p:xfrm>
        <a:graphic>
          <a:graphicData uri="http://schemas.openxmlformats.org/drawingml/2006/table">
            <a:tbl>
              <a:tblPr/>
              <a:tblGrid>
                <a:gridCol w="2746440"/>
                <a:gridCol w="2663640"/>
                <a:gridCol w="2952720"/>
              </a:tblGrid>
              <a:tr h="7779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obl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ém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94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Tulajdonság/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lő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lőny a verseny-társakkal szem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5d6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9:57:49Z</dcterms:created>
  <dc:creator>Mórucz László</dc:creator>
  <dc:description/>
  <cp:keywords>V3 Partners Zrt.</cp:keywords>
  <dc:language>en-US</dc:language>
  <cp:lastModifiedBy>Laci</cp:lastModifiedBy>
  <dcterms:modified xsi:type="dcterms:W3CDTF">2014-07-27T17:07:37Z</dcterms:modified>
  <cp:revision>144</cp:revision>
  <dc:subject/>
  <dc:title>Feature/Benefit Mátrix</dc:title>
</cp:coreProperties>
</file>