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CB3-51B9-4692-9ED2-5BD968B26D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F803-DD36-4FB9-B985-AC4B42F428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FEE0-2030-4C4E-B548-3948EB20C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52ED-844E-4854-8D16-A0B554347F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56C3-A058-4DF6-AEED-81AE81032A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2281-FCF7-406C-8C10-279C88174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6BAC-8E94-479E-B126-C2F4A03DE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CB3-4672-48B6-B615-B63978AEC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6468-DD75-43E7-B863-8F46C313B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4378-833F-40E9-97E6-A6EB14331E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6D08-8F09-480F-B343-6ADA280AE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464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080" y="154296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464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080" y="3979800"/>
            <a:ext cx="2692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5FCD-CE4D-491C-8F78-1826D2726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2743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2640" y="397980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542960"/>
            <a:ext cx="408096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9800"/>
            <a:ext cx="8362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7" descr="v3_logo_gold.png"/>
          <p:cNvPicPr/>
          <p:nvPr/>
        </p:nvPicPr>
        <p:blipFill>
          <a:blip r:embed="rId3"/>
          <a:srcRect l="21097" t="0" r="0" b="37313"/>
          <a:stretch/>
        </p:blipFill>
        <p:spPr>
          <a:xfrm>
            <a:off x="42840" y="368280"/>
            <a:ext cx="169056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4"/>
          <p:cNvSpPr/>
          <p:nvPr/>
        </p:nvSpPr>
        <p:spPr>
          <a:xfrm>
            <a:off x="4078080" y="6453360"/>
            <a:ext cx="92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</a:t>
            </a:r>
            <a:r>
              <a:rPr b="0" lang="hu-HU" sz="800" spc="-1" strike="noStrike">
                <a:solidFill>
                  <a:srgbClr val="000000"/>
                </a:solidFill>
                <a:latin typeface="Trajan Pro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8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357960"/>
              <a:ext cx="9144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6357960"/>
              <a:ext cx="9144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46" name="Text Box 9"/>
          <p:cNvSpPr/>
          <p:nvPr/>
        </p:nvSpPr>
        <p:spPr>
          <a:xfrm>
            <a:off x="4079520" y="6427800"/>
            <a:ext cx="91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ajan Pro"/>
              </a:rPr>
              <a:t>v3 Partners inc.</a:t>
            </a:r>
            <a:endParaRPr b="0" lang="en-US" sz="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v3_logo_gold.png"/>
          <p:cNvPicPr/>
          <p:nvPr/>
        </p:nvPicPr>
        <p:blipFill>
          <a:blip r:embed="rId3"/>
          <a:stretch/>
        </p:blipFill>
        <p:spPr>
          <a:xfrm>
            <a:off x="3130560" y="1268280"/>
            <a:ext cx="2538360" cy="143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2909520" y="5067360"/>
            <a:ext cx="31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rajan Pro"/>
              </a:rPr>
              <a:t>Tisztelet &amp; Teljesítmény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jan Pro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ajan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42960"/>
            <a:ext cx="83628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2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4" marL="380880" indent="-380880">
              <a:spcBef>
                <a:spcPts val="601"/>
              </a:spcBef>
              <a:buClr>
                <a:srgbClr val="b1b3a3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5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6"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raja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63CA-81CB-499F-A4BB-CB2168FAF7F1}" type="slidenum">
              <a:rPr b="0" lang="hu-HU" sz="1000" spc="-1" strike="noStrike">
                <a:solidFill>
                  <a:srgbClr val="000000"/>
                </a:solidFill>
                <a:latin typeface="Trajan Pr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6168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rajan Pro"/>
              </a:rPr>
              <a:t>BMC, Üzleti modellezés</a:t>
            </a:r>
            <a:br>
              <a:rPr sz="3600"/>
            </a:br>
            <a:r>
              <a:rPr b="0" lang="hu-HU" sz="2000" spc="-1" strike="noStrike">
                <a:solidFill>
                  <a:srgbClr val="000000"/>
                </a:solidFill>
                <a:latin typeface="Trajan Pro"/>
              </a:rPr>
              <a:t>Töltsd fel a mezőket, írd le az üzletet!</a:t>
            </a:r>
            <a:endParaRPr b="0" lang="en-US" sz="2000" spc="-1" strike="noStrike">
              <a:solidFill>
                <a:srgbClr val="000000"/>
              </a:solidFill>
              <a:latin typeface="Trajan Pro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484280"/>
          <a:ext cx="8290080" cy="4665600"/>
        </p:xfrm>
        <a:graphic>
          <a:graphicData uri="http://schemas.openxmlformats.org/drawingml/2006/table">
            <a:tbl>
              <a:tblPr/>
              <a:tblGrid>
                <a:gridCol w="1652760"/>
                <a:gridCol w="1641240"/>
                <a:gridCol w="851040"/>
                <a:gridCol w="861840"/>
                <a:gridCol w="1712880"/>
                <a:gridCol w="1570320"/>
              </a:tblGrid>
              <a:tr h="1555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5"/>
          <p:cNvSpPr/>
          <p:nvPr/>
        </p:nvSpPr>
        <p:spPr>
          <a:xfrm>
            <a:off x="3697200" y="2943360"/>
            <a:ext cx="1728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0000"/>
                </a:solidFill>
                <a:latin typeface="Bookman Old Style"/>
              </a:rPr>
              <a:t>Értékajánlat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292720" y="218592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Ügyfélkapcsolato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292720" y="364500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Csatorná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1908000" y="2205000"/>
            <a:ext cx="18720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Tevékenysége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1927080" y="364500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Erőforráso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1332000" y="521496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Költsége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5773680" y="521028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Bevétele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7021440" y="294012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Ügyfele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250920" y="2949480"/>
            <a:ext cx="18716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91947e"/>
                </a:solidFill>
                <a:latin typeface="Bookman Old Style"/>
              </a:rPr>
              <a:t>Szállítók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9:57:49Z</dcterms:created>
  <dc:creator>Mórucz László</dc:creator>
  <dc:description/>
  <cp:keywords>V3Partners Zrt.</cp:keywords>
  <dc:language>en-US</dc:language>
  <cp:lastModifiedBy>Laci</cp:lastModifiedBy>
  <cp:lastPrinted>2014-07-27T17:18:07Z</cp:lastPrinted>
  <dcterms:modified xsi:type="dcterms:W3CDTF">2014-07-27T17:38:22Z</dcterms:modified>
  <cp:revision>129</cp:revision>
  <dc:subject/>
  <dc:title>BMC Üzleti modellezés</dc:title>
</cp:coreProperties>
</file>