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30A3-AAFF-448D-9B02-1B3062F12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F39A-74B0-46AF-BA86-199D3834BD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1B54-42F5-4F5C-8B1E-0F4BACD657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D5ED-77B4-4990-B5AC-F2D998F8E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5E37-9D13-4F19-A040-AA62C37D91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D1B0-2545-47AA-84FC-A34EC3350F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56FC-B344-4FCD-9D9B-11AC6E1F13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7986-D4AE-4CCF-81D2-8032D7127E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A42A-98DD-4308-B4C8-44F09A38BA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8050-BCF2-4F91-A4D2-E6B854B2B1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B6B8-0723-41E2-88B6-E8D213F443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59AC-6FCC-484B-9B3B-181E403F5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" name="Picture 7" descr="v3_logo_gold.png"/>
          <p:cNvPicPr/>
          <p:nvPr/>
        </p:nvPicPr>
        <p:blipFill>
          <a:blip r:embed="rId3"/>
          <a:srcRect l="21097" t="0" r="0" b="37313"/>
          <a:stretch/>
        </p:blipFill>
        <p:spPr>
          <a:xfrm>
            <a:off x="42840" y="368280"/>
            <a:ext cx="1690560" cy="7603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4"/>
          <p:cNvSpPr/>
          <p:nvPr/>
        </p:nvSpPr>
        <p:spPr>
          <a:xfrm>
            <a:off x="4078080" y="6453360"/>
            <a:ext cx="92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</a:t>
            </a:r>
            <a:r>
              <a:rPr b="0" lang="hu-HU" sz="800" spc="-1" strike="noStrike">
                <a:solidFill>
                  <a:srgbClr val="000000"/>
                </a:solidFill>
                <a:latin typeface="Trajan Pro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46" name="Text Box 9"/>
          <p:cNvSpPr/>
          <p:nvPr/>
        </p:nvSpPr>
        <p:spPr>
          <a:xfrm>
            <a:off x="4079520" y="6427800"/>
            <a:ext cx="91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v3_logo_gold.png"/>
          <p:cNvPicPr/>
          <p:nvPr/>
        </p:nvPicPr>
        <p:blipFill>
          <a:blip r:embed="rId3"/>
          <a:stretch/>
        </p:blipFill>
        <p:spPr>
          <a:xfrm>
            <a:off x="3130560" y="1268280"/>
            <a:ext cx="2538360" cy="143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2909520" y="5067360"/>
            <a:ext cx="31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rajan Pro"/>
              </a:rPr>
              <a:t>Tisztelet &amp; Teljesítmény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raja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330-CFE4-4F91-ACE2-FB682C814057}" type="slidenum">
              <a:rPr b="0" lang="hu-HU" sz="1000" spc="-1" strike="noStrike">
                <a:solidFill>
                  <a:srgbClr val="000000"/>
                </a:solidFill>
                <a:latin typeface="Traja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95280" y="1484280"/>
          <a:ext cx="8290080" cy="4665600"/>
        </p:xfrm>
        <a:graphic>
          <a:graphicData uri="http://schemas.openxmlformats.org/drawingml/2006/table">
            <a:tbl>
              <a:tblPr/>
              <a:tblGrid>
                <a:gridCol w="1652760"/>
                <a:gridCol w="1641240"/>
                <a:gridCol w="851040"/>
                <a:gridCol w="861840"/>
                <a:gridCol w="1712880"/>
                <a:gridCol w="1570320"/>
              </a:tblGrid>
              <a:tr h="1555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25"/>
          <p:cNvSpPr/>
          <p:nvPr/>
        </p:nvSpPr>
        <p:spPr>
          <a:xfrm>
            <a:off x="3697200" y="2943360"/>
            <a:ext cx="1728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Bookman Old Style"/>
              </a:rPr>
              <a:t>Value Offer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5335560" y="218592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Customer Contact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5292720" y="364500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Channel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1855800" y="2133720"/>
            <a:ext cx="20685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Processes</a:t>
            </a: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/</a:t>
            </a: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 Activities 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in Focu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1927080" y="364500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Key Resource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1332000" y="521496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5773680" y="521028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Income</a:t>
            </a: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7021440" y="294012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250920" y="294948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47e"/>
                </a:solidFill>
                <a:latin typeface="Bookman Old Style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BMC Tool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rajan Pro"/>
              </a:rPr>
              <a:t>Fill the cells to </a:t>
            </a:r>
            <a:r>
              <a:rPr b="0" lang="hu-HU" sz="2000" spc="-1" strike="noStrike">
                <a:solidFill>
                  <a:srgbClr val="000000"/>
                </a:solidFill>
                <a:latin typeface="Trajan Pro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Trajan Pro"/>
              </a:rPr>
              <a:t> your business</a:t>
            </a:r>
            <a:endParaRPr b="0" lang="en-US" sz="2000" spc="-1" strike="noStrike">
              <a:solidFill>
                <a:srgbClr val="000000"/>
              </a:solidFill>
              <a:latin typeface="Traja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9:57:49Z</dcterms:created>
  <dc:creator>Mórucz László</dc:creator>
  <dc:description/>
  <cp:keywords>V3Partners Inc.</cp:keywords>
  <dc:language>en-US</dc:language>
  <cp:lastModifiedBy>Laci</cp:lastModifiedBy>
  <cp:lastPrinted>2014-07-27T17:18:07Z</cp:lastPrinted>
  <dcterms:modified xsi:type="dcterms:W3CDTF">2014-07-27T17:32:22Z</dcterms:modified>
  <cp:revision>128</cp:revision>
  <dc:subject/>
  <dc:title>BMC tool</dc:title>
</cp:coreProperties>
</file>