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464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208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464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208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63ED-E015-46EA-9C3E-8AD120F686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A7A7-5D9A-44FF-8287-CC66E8F4C4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B23C-846B-46A0-8904-C158E2549B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BAC7-8876-4958-A68B-29AB792896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AC7B-F927-4D3D-BF0F-94F2974326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61680" y="27432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EE96-0749-44D8-8AE2-45D18F55C8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3F6C-AE39-43F3-A772-377C24774D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10CF-F0E3-4F25-8557-EAC33034CF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FA6A0-5E49-4192-80F3-8B9AAEE954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1786-EB01-4E8F-AB61-7B3F4E1FE2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D248-A9D9-4CA6-8B1D-5CCA1D5B22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464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08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464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08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090B-6043-4431-BFF3-48F8C2B7E6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27432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144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357960"/>
              <a:ext cx="9144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jan Pro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4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5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6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" name="Picture 7" descr="v3_logo_gold.png"/>
          <p:cNvPicPr/>
          <p:nvPr/>
        </p:nvPicPr>
        <p:blipFill>
          <a:blip r:embed="rId3"/>
          <a:srcRect l="21097" t="0" r="0" b="37313"/>
          <a:stretch/>
        </p:blipFill>
        <p:spPr>
          <a:xfrm>
            <a:off x="42840" y="368280"/>
            <a:ext cx="1690560" cy="760320"/>
          </a:xfrm>
          <a:prstGeom prst="rect">
            <a:avLst/>
          </a:prstGeom>
          <a:ln w="0">
            <a:noFill/>
          </a:ln>
        </p:spPr>
      </p:pic>
      <p:sp>
        <p:nvSpPr>
          <p:cNvPr id="6" name="Text Box 24"/>
          <p:cNvSpPr/>
          <p:nvPr/>
        </p:nvSpPr>
        <p:spPr>
          <a:xfrm>
            <a:off x="4082400" y="6453360"/>
            <a:ext cx="918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ajan Pro"/>
              </a:rPr>
              <a:t>v3 Partners inc.</a:t>
            </a:r>
            <a:endParaRPr b="0" lang="en-US" sz="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" spc="-1" strike="noStrike">
                <a:solidFill>
                  <a:srgbClr val="000000"/>
                </a:solidFill>
                <a:latin typeface="Trajan Pro"/>
              </a:rPr>
              <a:t>Copyright 2013</a:t>
            </a:r>
            <a:endParaRPr b="0" lang="en-US" sz="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ectangle 8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4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144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6357960"/>
              <a:ext cx="9144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46" name="Text Box 9"/>
          <p:cNvSpPr/>
          <p:nvPr/>
        </p:nvSpPr>
        <p:spPr>
          <a:xfrm>
            <a:off x="4079520" y="6427800"/>
            <a:ext cx="91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ajan Pro"/>
              </a:rPr>
              <a:t>v3 Partners inc.</a:t>
            </a:r>
            <a:endParaRPr b="0" lang="en-US" sz="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7" name="Picture 6" descr="v3_logo_gold.png"/>
          <p:cNvPicPr/>
          <p:nvPr/>
        </p:nvPicPr>
        <p:blipFill>
          <a:blip r:embed="rId3"/>
          <a:stretch/>
        </p:blipFill>
        <p:spPr>
          <a:xfrm>
            <a:off x="3130560" y="1268280"/>
            <a:ext cx="2538360" cy="14353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3057120" y="5067360"/>
            <a:ext cx="31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rajan Pro"/>
              </a:rPr>
              <a:t>Tisztelet &amp; Teljesítmény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jan Pro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4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5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6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raja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A14C-DBFD-4CBF-803B-E661DCEC9569}" type="slidenum">
              <a:rPr b="0" lang="hu-HU" sz="1000" spc="-1" strike="noStrike">
                <a:solidFill>
                  <a:srgbClr val="000000"/>
                </a:solidFill>
                <a:latin typeface="Trajan Pr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6" descr=""/>
          <p:cNvPicPr/>
          <p:nvPr/>
        </p:nvPicPr>
        <p:blipFill>
          <a:blip r:embed="rId1"/>
          <a:stretch/>
        </p:blipFill>
        <p:spPr>
          <a:xfrm>
            <a:off x="231840" y="1109520"/>
            <a:ext cx="8678880" cy="5227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rajan Pro"/>
              </a:rPr>
              <a:t>Miben más?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Trajan Pro"/>
              </a:rPr>
              <a:t>2Is-</a:t>
            </a:r>
            <a:r>
              <a:rPr b="0" lang="hu-HU" sz="2000" spc="-1" strike="noStrike">
                <a:solidFill>
                  <a:srgbClr val="000000"/>
                </a:solidFill>
                <a:latin typeface="Trajan Pro"/>
              </a:rPr>
              <a:t>Megkülönböztetés</a:t>
            </a:r>
            <a:endParaRPr b="0" lang="en-US" sz="2000" spc="-1" strike="noStrike">
              <a:solidFill>
                <a:srgbClr val="000000"/>
              </a:solidFill>
              <a:latin typeface="Traja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rajan Pro"/>
              </a:rPr>
              <a:t>Miben más?</a:t>
            </a:r>
            <a:br>
              <a:rPr sz="3600"/>
            </a:br>
            <a:r>
              <a:rPr b="0" lang="hu-HU" sz="2000" spc="-1" strike="noStrike">
                <a:solidFill>
                  <a:srgbClr val="000000"/>
                </a:solidFill>
                <a:latin typeface="Trajan Pro"/>
              </a:rPr>
              <a:t>Helyezd el magad a versenytársakhoz képest!</a:t>
            </a:r>
            <a:endParaRPr b="0" lang="en-US" sz="2000" spc="-1" strike="noStrike">
              <a:solidFill>
                <a:srgbClr val="000000"/>
              </a:solidFill>
              <a:latin typeface="Trajan Pro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763640" y="1333440"/>
            <a:ext cx="6620040" cy="47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9:57:49Z</dcterms:created>
  <dc:creator>Mórucz László</dc:creator>
  <dc:description/>
  <cp:keywords>V3Partners Zrt.</cp:keywords>
  <dc:language>en-US</dc:language>
  <cp:lastModifiedBy>Laci</cp:lastModifiedBy>
  <dcterms:modified xsi:type="dcterms:W3CDTF">2014-07-27T17:06:04Z</dcterms:modified>
  <cp:revision>145</cp:revision>
  <dc:subject/>
  <dc:title>2Is Differentiation</dc:title>
</cp:coreProperties>
</file>